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5E6-3127-4B44-845A-519D80A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D76-A3FA-4121-80F0-1481535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05C-1A7C-415E-9419-F8308AB9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7CB-7F37-4566-A928-7D2A7445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557-86E9-4EEF-A978-D08A8AB3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F88-7CF5-4D4F-8909-7F2ECF24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156F-569F-4615-9FBA-0B5C320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D17-F712-49AA-AFB3-0041A1E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B228-6368-4023-A474-57AD463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A420-EDF9-40FA-83B7-EDB34AD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F61-028B-4B4D-B7CC-C5C5C16D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9A4-A09C-448A-BFD3-8F9A3F2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4FB-BA35-4A37-8B0D-B6A5589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4B76-B231-49FA-A579-882133E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F7AC-F7C8-4CF2-B9FE-A78E9268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F25-D7CF-441D-9A31-C26EC51C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98B-5EAB-4EA0-AC45-EA37D10F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444-8D01-4D23-978C-0BE34AFF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10D-7E78-49C8-800D-33757E16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B1F-9454-4AB8-B74E-90CFDCF6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114-0DC6-423C-8879-2D0988AB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5B6-E259-4630-99A9-402713F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E6E-C8DF-485D-B763-6AD402F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8D2-A4D9-49F2-95BA-F296D87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1B77-DA97-4A68-A052-829808FF05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6651-2FAC-436B-8490-470C66F7E3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3.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/ (2.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3000 / 230 = 143.478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 the Coeffici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.3/ 2.3 = 1.434783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tract the Expon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/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4347823 X 1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3.478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1" dur="1" fill="hold"/>
                                  <p:tgtEl>
                                    <p:spTgt spid="104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.6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/ (5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.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/ (4.2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Ex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=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X10 = 1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X10X10X10 = 10,0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Ex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 = 0.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 = 0.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0 = 0.0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/10000 = 0.000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use the idea of exponents to make it easier to work with large and small number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,000 = 1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50,000 = 2.5 X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unt places to the left until there is one number to the left of the decimal poi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30,000 =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,000 =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ientific Notation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6 = 6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45 = 4.5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 places to the right until there is one number to the left of the decimal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3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025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9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 the Ex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0 X 1000 = 100,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2.3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(3.3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30 X 33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ultiply the Coeffici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.3 X 3.3 = 7.59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d the Expon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.59 X 1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59,0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98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ltiplying with Scientific No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.6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X (5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.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X (4.2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=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viding with Scientific Nota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tract the Ex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000X 1000 =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20:17:15Z</dcterms:created>
  <dc:creator>Ken Gardner</dc:creator>
  <dc:description/>
  <dc:language>en-US</dc:language>
  <cp:lastModifiedBy> </cp:lastModifiedBy>
  <dcterms:modified xsi:type="dcterms:W3CDTF">2007-11-11T16:59:03Z</dcterms:modified>
  <cp:revision>7</cp:revision>
  <dc:subject/>
  <dc:title>Slide 1</dc:title>
</cp:coreProperties>
</file>